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B4E-898A-47FE-A83D-AB97C860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E8B-27F8-4F67-A777-DFB44805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AF0-DB76-4C89-AEED-CA368D6E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331-512D-487D-B572-3C135ED6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160-5218-4DE9-AEC2-F4046D6B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C0A-7489-4950-A0C2-899C633C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3E1-B57A-471A-AD36-5E37DADA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9BE-D664-41C9-9D66-75945DC8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BBD-D692-45FE-95C3-BD278B58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949-A4F8-45C6-BC7F-CC994DB5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ED8-601A-4E6F-BC22-51CC91B9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042-F9F9-4EEB-8141-7A2EC2D7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44F1-621E-4C2E-AC11-57F4AB8F8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51360" cy="80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581280" cy="1038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70106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943600" cy="14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7467480" cy="25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76920" y="2895480"/>
            <a:ext cx="2590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335268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733920"/>
            <a:ext cx="1828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426708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858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367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3733920"/>
            <a:ext cx="2286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39604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365760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867280"/>
            <a:ext cx="914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2:19:49Z</dcterms:created>
  <dc:creator>grahams</dc:creator>
  <dc:description/>
  <dc:language>en-US</dc:language>
  <cp:lastModifiedBy>grahams</cp:lastModifiedBy>
  <dcterms:modified xsi:type="dcterms:W3CDTF">2012-03-20T14:14:47Z</dcterms:modified>
  <cp:revision>2</cp:revision>
  <dc:subject/>
  <dc:title>Slide 1</dc:title>
</cp:coreProperties>
</file>